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EA5E-A69F-4AB8-B838-0017E2EA1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0BC5-4A16-46DD-88A9-1F41A96EE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B410-CDDC-4900-B6FA-1579EFD3C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E7C0-51AB-47D4-B3B4-D2FDFEEC7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47B3-5ACA-4D4B-9AFF-8C92A8F7C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C104-C5BE-4031-B261-AD32E7C01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906E-8032-440C-B624-9A13E36C0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1992-9B00-4132-B6CF-6B00256BF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1E80-85C6-4428-AF6E-3405FFB04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C2FB-961A-46CA-A6F0-65DD186EB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A70C-400B-4911-9834-94D5142A5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3936-8DA0-4321-B30E-4E858184D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FA40D-FA37-4874-88E6-82A48E9E218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chemistry.ssu.samara.ru/chem2/lebedev.htm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олучение и свойства алкадиен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457200" y="500040"/>
            <a:ext cx="82296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Получение алкадиенов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Общие способы получения диенов аналогичны способам получения алкенов.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1. Каталитическое двухстадийное дегидрирование алканов (через стадию образования алкенов). Этим путем получают в промышленности дивинил из бутана, содержащегося в газах нефтепереработки и в попутных газах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Каталитическим дегидрированием изопентана (2-метилбутана) получают изопрен: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2. Синтез дивинила по Лебедеву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3. Дегидратация гликолей (двухатомных спиртов, или алкандиолов)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Действие спиртового раствора щелочи на дигалогеналканы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Химические свойств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Calibri"/>
              </a:rPr>
              <a:t>По химическим свойствам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 диеновые углеводороды подобны алкенам. Они легко окисляются и вступают в </a:t>
            </a:r>
            <a:r>
              <a:rPr b="0" i="1" lang="ru-RU" sz="1700" spc="-1" strike="noStrike">
                <a:solidFill>
                  <a:srgbClr val="000000"/>
                </a:solidFill>
                <a:latin typeface="Calibri"/>
              </a:rPr>
              <a:t>реакции присоединения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. Однако сопряженные диены отличаются некоторыми особенностями, которые обусловлены делокализацией (рассредоточением) p -электронов. p-Электроны двойных связей образуют единое p -электронное облако (сопряженную систему) и делокализованы между всеми атомами углерода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Образование единого p -электронного облака, охватывающего 4 атома углерода: приводит к возможности присоединения реагента по концам этой системы, т.е. к атомам С</a:t>
            </a:r>
            <a:r>
              <a:rPr b="0" lang="ru-RU" sz="17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 и С</a:t>
            </a:r>
            <a:r>
              <a:rPr b="0" lang="ru-RU" sz="17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. Поэтому дивинил и изопрен наряду с присоединением 1 моля реагента по одной из двойных связей (1,2- или 3,4-) вступают в реакции </a:t>
            </a:r>
            <a:r>
              <a:rPr b="0" i="1" lang="ru-RU" sz="1700" spc="-1" strike="noStrike">
                <a:solidFill>
                  <a:srgbClr val="000000"/>
                </a:solidFill>
                <a:latin typeface="Calibri"/>
              </a:rPr>
              <a:t>1,4-присоединения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500040"/>
            <a:ext cx="8229600" cy="57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. Реакции присоединения к сопряженным диена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1). Гидрирование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 При гидрировании бутадиена-1,3 получается бутен-2, т.е. происходит 1,4-присоединение. При этом двойные связи разрываются, к крайним атомам углерода С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и С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присоединяются атомы водорода, а свободные валентности образуют двойную связь между атомами С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и С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присутствии катализатора Ni получается продукт полного гидрирования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2). Галогенирование.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,4-присоединение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,2-присоединение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 избытке брома присоединяется еще одна его молекула по месту оставшейся двойной связи с образованием 1,2,3,4-тетрабромбутан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 реакциям присоединения относятся реакции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полимеризации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 характерные для диенов. Этот процесс имеет важное значение в производстве синтетических каучук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3. Диеновый синтез (реакция Дильса-Альдера)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органическом синтезе широко применяется реакция присоединения к сопряженным диенам соединений, содержащих кратные связи (так называемых диенофилов). Реакция идет как 1,4-присоединение и приводит к образованию циклических продуктов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57200" y="500040"/>
            <a:ext cx="8229600" cy="57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I.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олимеризация сопряженных диенов. Каучу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ивинил и изопрен вступают в полимеризацию и сополимеризацию (т.е. совместную полимеризацию) с другими непредельными соединениями, образуя каучуки. Каучуки – это эластичные высокомолекулярные материалы (эластомеры), из которых методом вулканизации (нагреванием с серой) получают резину.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Натуральный каучук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– природный высокомолекулярный непредельный углеводород состава (С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5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8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 где n составляет 1000-3000 единиц. Установлено, что этот полимер состоит из повторяющихся звеньев 1,4-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цис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изопрена и имеет стереорегулярное строение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природных условиях натуральный каучук образуется не путем полимеризации изопрена, а другим, более сложным способом. Полимеризация 1,3-диенов может протекать либо по типу 1,4-присоединения, либо по смешанному типу 1,2- и 1,4-присоединения. Направление присоединения зависит от условий проведения реакции. Первый синтетический каучук, полученный по методу 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С.В. Лебедев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при полимеризации дивинила под действием металлического натрия, представлял собой полимер нерегулярного строения со смешанным типом звеньев 1,2- и 1,4-присоединения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8-27T07:29:39Z</dcterms:created>
  <dc:creator>Андрей</dc:creator>
  <dc:description/>
  <dc:language>en-US</dc:language>
  <cp:lastModifiedBy>Андрей</cp:lastModifiedBy>
  <dcterms:modified xsi:type="dcterms:W3CDTF">2020-08-27T07:44:10Z</dcterms:modified>
  <cp:revision>6</cp:revision>
  <dc:subject/>
  <dc:title>Получение и свойства алкадиенов</dc:title>
</cp:coreProperties>
</file>